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D04-BC3B-45BE-84A0-7B8F8D0A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223-2741-4703-B885-D97D0D09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58A-D85B-4309-A864-16C3300F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9FB-A3C7-46E6-9D04-07024226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39B-DAF8-4B2C-B3B2-AC5C748A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3A62-CAA2-4C7F-A40A-8E06919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6AFE-CD01-4119-8012-E7420E3F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4E1B-635F-48C8-8580-D588BD68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5FF0-D063-4A20-8378-2685ACA0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A598-998A-4AC0-B5F3-F80DD4A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FB59-E4E5-4AD8-B438-C8316C5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172-4B62-40FC-87D2-7F34790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8D6C-E1E2-40E8-BA56-0D6AE14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825C-EA93-4B66-AB3E-BDA686B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00B7-E35C-48BC-AFD0-CD36B14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B04-B543-4111-AB88-81BC9865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4AA-51E8-4F56-85D7-82D9606C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0BE-E0AC-4BB6-AA75-89AD91F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F99-5CB2-43B0-978A-FCD7899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585-4548-49A3-B86D-F20E111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423-E155-4FB4-9B14-8A00EA22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DBD-E30D-48B4-B844-F2891AA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ACC-A4BE-4B18-BB4C-C451CCB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902-075E-4A0C-8B60-C62F9207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0FFD-D5FC-4152-9E34-0E471A8DB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97C-F2D3-495E-8058-59443E084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2:20Z</dcterms:created>
  <dc:creator> Todd Fibus</dc:creator>
  <dc:description/>
  <dc:language>en-US</dc:language>
  <cp:lastModifiedBy>YHS Teacher</cp:lastModifiedBy>
  <dcterms:modified xsi:type="dcterms:W3CDTF">2009-01-12T01:57:50Z</dcterms:modified>
  <cp:revision>5</cp:revision>
  <dc:subject/>
  <dc:title>Slide 1</dc:title>
</cp:coreProperties>
</file>